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B55C-B547-4747-AAB6-1365656C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57B53A-813D-4ABE-AC51-694755236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3BA2-1ADC-43E7-9EBE-85B60060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84E-3A64-4F6A-9095-4EFBC979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6DD4-0AA8-4D8C-8D36-74523854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22E8-B55E-44EA-BD75-ED4B7C04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161-D66D-405C-873B-BB59FA89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305-7ABE-43D2-AE24-E3B08ECB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DEC5-B7B6-4EFF-9BC9-3DA6271EE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C136-7791-4189-AA28-4A611919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FB3-53B7-4595-8250-1C1288415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CDEF-B34C-49DD-B6C6-4C90F1F3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5A15-C6EF-442C-827A-27898779E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299-9371-48EC-8059-3AF91C62D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918-F78D-4C7F-AC9C-CDA68F12E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CA28-FE26-48C8-B6C5-9BE7FE1D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998B-A504-459D-ADC6-B77EBE29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A427-1E79-4BC2-827F-13644C0E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2A70-4574-4E32-A0A4-3CC7294A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5D6C-9EAE-48DA-BF98-851953B78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FDA8-6C89-47DD-99D4-52AA36CD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3197-5BEC-497C-8FB5-F6181E05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C4A1-22A2-4EED-99F7-FCA51B987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FB3D-98C6-4501-A140-5449B39C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AEB-CF82-4AE9-912D-B5F3ACE3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4E2D-DBC3-4FCF-A746-5C2AFD82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483B-70A7-46B7-8FF9-90842AEF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C0D3-2B25-4770-8971-269C9306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7976-E2EE-4944-8DA4-3F8B2B2E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6F96-4725-45F4-9DD1-D0C12107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53A-033E-4A33-905B-B9D2D5627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7D80-3071-4AC2-B6A4-51873C40C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FA8C-8623-4994-917F-2A8B9838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284B-2107-4635-A53B-4FC952BB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4C8-C70A-47C4-B3D1-9D612B7B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CAD-A2EA-4126-AD63-EBE885A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07F-970A-4783-845C-E258D43C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849-8DD2-4203-8DCC-7776299C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0B28A-7F05-474A-8CF6-E282552BD1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DA7D-1B43-4F5A-A95F-A5EB72AFF5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0CCB3-8E6F-45E7-B682-8A03A66E4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B2F5C-A84B-4616-BF2C-F6B15BE8D6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B62FF-97C4-428A-BC1C-8F4D01342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0298B-6AAD-41C7-B7D8-2F90EF1CF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D145C-D2AA-4091-AE01-CF79450B83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118-F0F0-4055-953C-19F992B0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A82E0-5056-43A7-8980-5C98A24E9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0CA5E-0D0C-4BBE-A7B5-F5ED833CB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3C9DD-B7A3-482D-95C0-3CEE8CAE98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AAC29-8948-4A4A-A15A-426BCA5994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CBAB2-E5A6-4550-917B-290213564E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6C21-AEF8-40FD-A849-3CC169B8F8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8AB9E-665C-4360-8E7F-869E1D7B4A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2D38C-D3B8-4FE2-89F7-6D6EF70DD2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69222-876A-4926-A68B-74D9B3158C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2FD33-38C3-4564-B114-17704296C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278-8AB7-4F99-8810-8507A341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435ED-F831-4341-BD51-9AC8E56EB2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48B97-E090-4911-9901-A702C12403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89E8A-4C6A-45E7-AA97-F2B3DF459F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2C00F-8FDC-4311-9C20-4210CCD81D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C73DD-BE93-475D-806A-811E0001DF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B0F07-86E3-4E30-A2B0-AB818C6A07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C0906-3701-4BF0-9794-61167005C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52D-66D2-41EE-B6E1-D3B1BB2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427-C2C8-46AB-A60E-AD8D1608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4CA-89EB-4426-9F65-002FB34F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050-A9C2-420C-9F30-2D4C5D70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88B-15B6-4F23-95C0-C594DC6B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3DA-5A25-40E4-B2CC-806A4AB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84D-95A7-4C03-8366-7EE3B86E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FA63-8A37-4C2D-85A5-BAAF25AC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50BF-9EA2-47C7-B7DB-228BC4EDE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ma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 (position and orientation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a Rigi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CE7-7D1F-4E53-9EA0-E72EF697A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41520" y="4368960"/>
                <a:ext cx="17143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701640" y="5299200"/>
                <a:ext cx="38433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EBF-294B-45A5-A3A7-75E84A071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09480" y="3013200"/>
                <a:ext cx="38451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"/>
          <p:cNvSpPr/>
          <p:nvPr/>
        </p:nvSpPr>
        <p:spPr>
          <a:xfrm>
            <a:off x="22860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06880" y="4497480"/>
                <a:ext cx="635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4070520" y="4343400"/>
                <a:ext cx="1650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0"/>
              <p:cNvSpPr txBox="1"/>
              <p:nvPr/>
            </p:nvSpPr>
            <p:spPr>
              <a:xfrm>
                <a:off x="914400" y="1981080"/>
                <a:ext cx="39211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6" name="Group 82"/>
          <p:cNvGrpSpPr/>
          <p:nvPr/>
        </p:nvGrpSpPr>
        <p:grpSpPr>
          <a:xfrm>
            <a:off x="5867280" y="2209680"/>
            <a:ext cx="2742840" cy="2414880"/>
            <a:chOff x="5867280" y="2209680"/>
            <a:chExt cx="2742840" cy="2414880"/>
          </a:xfrm>
        </p:grpSpPr>
        <p:grpSp>
          <p:nvGrpSpPr>
            <p:cNvPr id="377" name="Group 5"/>
            <p:cNvGrpSpPr/>
            <p:nvPr/>
          </p:nvGrpSpPr>
          <p:grpSpPr>
            <a:xfrm>
              <a:off x="5867280" y="2209680"/>
              <a:ext cx="2742840" cy="2414880"/>
              <a:chOff x="5867280" y="2209680"/>
              <a:chExt cx="2742840" cy="2414880"/>
            </a:xfrm>
          </p:grpSpPr>
          <mc:AlternateContent>
            <mc:Choice xmlns:a14="http://schemas.microsoft.com/office/drawing/2010/main" Requires="a14">
              <p:sp>
                <p:nvSpPr>
                  <p:cNvPr id="378" name="Object 6"/>
                  <p:cNvSpPr txBox="1"/>
                  <p:nvPr/>
                </p:nvSpPr>
                <p:spPr>
                  <a:xfrm>
                    <a:off x="6045840" y="4394160"/>
                    <a:ext cx="23832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9" name="Line 7"/>
              <p:cNvSpPr/>
              <p:nvPr/>
            </p:nvSpPr>
            <p:spPr>
              <a:xfrm>
                <a:off x="6857280" y="3831480"/>
                <a:ext cx="16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V="1">
                <a:off x="6857280" y="2382840"/>
                <a:ext cx="0" cy="144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Object 9"/>
                  <p:cNvSpPr txBox="1"/>
                  <p:nvPr/>
                </p:nvSpPr>
                <p:spPr>
                  <a:xfrm>
                    <a:off x="6917040" y="2209680"/>
                    <a:ext cx="238320" cy="2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2" name="Object 10"/>
                  <p:cNvSpPr txBox="1"/>
                  <p:nvPr/>
                </p:nvSpPr>
                <p:spPr>
                  <a:xfrm>
                    <a:off x="8348400" y="3930840"/>
                    <a:ext cx="261720" cy="27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3" name="Object 11"/>
                  <p:cNvSpPr txBox="1"/>
                  <p:nvPr/>
                </p:nvSpPr>
                <p:spPr>
                  <a:xfrm>
                    <a:off x="8049960" y="2904480"/>
                    <a:ext cx="1926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12"/>
                  <p:cNvSpPr txBox="1"/>
                  <p:nvPr/>
                </p:nvSpPr>
                <p:spPr>
                  <a:xfrm>
                    <a:off x="6180480" y="2441160"/>
                    <a:ext cx="25812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5" name="Group 13"/>
              <p:cNvGrpSpPr/>
              <p:nvPr/>
            </p:nvGrpSpPr>
            <p:grpSpPr>
              <a:xfrm>
                <a:off x="6399720" y="2952720"/>
                <a:ext cx="1840320" cy="909360"/>
                <a:chOff x="6399720" y="2952720"/>
                <a:chExt cx="1840320" cy="909360"/>
              </a:xfrm>
            </p:grpSpPr>
            <p:sp>
              <p:nvSpPr>
                <p:cNvPr id="386" name="Line 14"/>
                <p:cNvSpPr/>
                <p:nvPr/>
              </p:nvSpPr>
              <p:spPr>
                <a:xfrm flipV="1">
                  <a:off x="6859080" y="3189960"/>
                  <a:ext cx="1380960" cy="67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5"/>
                <p:cNvSpPr/>
                <p:nvPr/>
              </p:nvSpPr>
              <p:spPr>
                <a:xfrm flipH="1" flipV="1">
                  <a:off x="6399720" y="2952720"/>
                  <a:ext cx="42372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Line 16"/>
              <p:cNvSpPr/>
              <p:nvPr/>
            </p:nvSpPr>
            <p:spPr>
              <a:xfrm flipV="1">
                <a:off x="6857280" y="3078360"/>
                <a:ext cx="83448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7692120" y="3078360"/>
                <a:ext cx="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6857280" y="30783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"/>
              <p:cNvSpPr/>
              <p:nvPr/>
            </p:nvSpPr>
            <p:spPr>
              <a:xfrm>
                <a:off x="7692120" y="3078360"/>
                <a:ext cx="119160" cy="289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6678000" y="3078360"/>
                <a:ext cx="1013400" cy="463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21"/>
                  <p:cNvSpPr txBox="1"/>
                  <p:nvPr/>
                </p:nvSpPr>
                <p:spPr>
                  <a:xfrm>
                    <a:off x="7572960" y="2673000"/>
                    <a:ext cx="30420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Line 22"/>
              <p:cNvSpPr/>
              <p:nvPr/>
            </p:nvSpPr>
            <p:spPr>
              <a:xfrm flipH="1">
                <a:off x="5867280" y="3814560"/>
                <a:ext cx="101376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3"/>
              <p:cNvSpPr/>
              <p:nvPr/>
            </p:nvSpPr>
            <p:spPr>
              <a:xfrm flipH="1">
                <a:off x="6284520" y="3814560"/>
                <a:ext cx="5961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6" name="Object 24"/>
                  <p:cNvSpPr txBox="1"/>
                  <p:nvPr/>
                </p:nvSpPr>
                <p:spPr>
                  <a:xfrm>
                    <a:off x="6403680" y="4104360"/>
                    <a:ext cx="21492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97" name="Arc 48"/>
            <p:cNvSpPr/>
            <p:nvPr/>
          </p:nvSpPr>
          <p:spPr>
            <a:xfrm flipV="1">
              <a:off x="7238880" y="35053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</a:path>
                <a:path stroke="0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  <a:lnTo>
                    <a:pt x="0" y="160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49"/>
                <p:cNvSpPr txBox="1"/>
                <p:nvPr/>
              </p:nvSpPr>
              <p:spPr>
                <a:xfrm>
                  <a:off x="7543800" y="3505320"/>
                  <a:ext cx="233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19"/>
              <p:cNvSpPr txBox="1"/>
              <p:nvPr/>
            </p:nvSpPr>
            <p:spPr>
              <a:xfrm>
                <a:off x="1143000" y="3429000"/>
                <a:ext cx="3405240" cy="33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C468-AC23-400C-A9DC-1D7F55DD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y-axi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z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"/>
              <p:cNvSpPr txBox="1"/>
              <p:nvPr/>
            </p:nvSpPr>
            <p:spPr>
              <a:xfrm>
                <a:off x="1295280" y="5715000"/>
                <a:ext cx="1846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4511520" y="1447920"/>
                <a:ext cx="39308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4505400" y="3200400"/>
                <a:ext cx="409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4446720" y="502920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5410080" y="11430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0"/>
              <p:cNvSpPr txBox="1"/>
              <p:nvPr/>
            </p:nvSpPr>
            <p:spPr>
              <a:xfrm>
                <a:off x="5410080" y="26668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1"/>
              <p:cNvSpPr txBox="1"/>
              <p:nvPr/>
            </p:nvSpPr>
            <p:spPr>
              <a:xfrm>
                <a:off x="5410080" y="47242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42B-D8E3-43FE-AC04-543BEFBD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attached to a rotating frame, the frame rotates 60 degree about the OZ axis of the reference frame.  Find the coordinates of the point relative to the reference frame after th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2046240" y="1447920"/>
                <a:ext cx="1474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2133720" y="3733920"/>
                <a:ext cx="48006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w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6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9DB-EEFC-4F32-9BF2-41FFF9AB7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the coordinate w.r.t. the reference coordinate system, find the corresponding point         w.r.t. the rotated OUVW coordinate system if it has been rotated 60 degree about OZ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286000" y="129528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4343400" y="21337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20" name="Object 10"/>
          <p:cNvGraphicFramePr/>
          <p:nvPr/>
        </p:nvGraphicFramePr>
        <p:xfrm>
          <a:off x="2057400" y="3505320"/>
          <a:ext cx="487692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8769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9FEC-5045-4806-BEC7-CC01F66D4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finite r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s do not com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principal axis of OXYZ fram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fixed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its own principal axes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current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1E7A-9FAA-4BDC-9779-70B61F8F8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with respect to Curren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9CA7-498D-4F65-A89A-3407BD29B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09480" y="1851120"/>
                <a:ext cx="1905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92200" y="2484360"/>
                <a:ext cx="1940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2200" y="3370320"/>
                <a:ext cx="19749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09480" y="4572000"/>
                <a:ext cx="4711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703440" y="5351400"/>
                <a:ext cx="2320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85800" y="5943600"/>
                <a:ext cx="3014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5257-2CB0-47E6-9505-3118C076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57200" y="586728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15"/>
          <p:cNvGraphicFramePr/>
          <p:nvPr/>
        </p:nvGraphicFramePr>
        <p:xfrm>
          <a:off x="182520" y="2960640"/>
          <a:ext cx="3932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60640"/>
                    <a:ext cx="3932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16"/>
              <p:cNvSpPr txBox="1"/>
              <p:nvPr/>
            </p:nvSpPr>
            <p:spPr>
              <a:xfrm>
                <a:off x="4343400" y="2371680"/>
                <a:ext cx="471312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0FD-D03A-4949-9C0F-7C4E48D08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0" y="2666880"/>
                <a:ext cx="3978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3962520" y="2371680"/>
                <a:ext cx="50292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Text Box 14"/>
          <p:cNvSpPr/>
          <p:nvPr/>
        </p:nvSpPr>
        <p:spPr>
          <a:xfrm>
            <a:off x="457200" y="502920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57200" y="548640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70B2-3F1A-454A-B7EC-523CE7264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5"/>
              <p:cNvSpPr txBox="1"/>
              <p:nvPr/>
            </p:nvSpPr>
            <p:spPr>
              <a:xfrm>
                <a:off x="336600" y="256860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14"/>
          <p:cNvSpPr/>
          <p:nvPr/>
        </p:nvSpPr>
        <p:spPr>
          <a:xfrm>
            <a:off x="1219320" y="5410080"/>
            <a:ext cx="57909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219320" y="5867280"/>
            <a:ext cx="57909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93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 (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8267760" y="3201840"/>
                <a:ext cx="20160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Line 4"/>
          <p:cNvSpPr/>
          <p:nvPr/>
        </p:nvSpPr>
        <p:spPr>
          <a:xfrm flipV="1">
            <a:off x="5530680" y="126648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530680" y="3100320"/>
            <a:ext cx="28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141880" y="1266840"/>
                <a:ext cx="222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Line 7"/>
          <p:cNvSpPr/>
          <p:nvPr/>
        </p:nvSpPr>
        <p:spPr>
          <a:xfrm flipV="1">
            <a:off x="5530680" y="2383920"/>
            <a:ext cx="1727280" cy="71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304040" y="202716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7176960" y="3160800"/>
                <a:ext cx="1810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5202360" y="2260440"/>
                <a:ext cx="201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85720" y="1454040"/>
                <a:ext cx="1355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4"/>
          <p:cNvSpPr/>
          <p:nvPr/>
        </p:nvSpPr>
        <p:spPr>
          <a:xfrm>
            <a:off x="1898640" y="1965240"/>
            <a:ext cx="26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column”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981000" y="2928960"/>
                <a:ext cx="1998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8"/>
              <p:cNvSpPr txBox="1"/>
              <p:nvPr/>
            </p:nvSpPr>
            <p:spPr>
              <a:xfrm>
                <a:off x="587520" y="4065480"/>
                <a:ext cx="369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Text Box 26"/>
          <p:cNvSpPr/>
          <p:nvPr/>
        </p:nvSpPr>
        <p:spPr>
          <a:xfrm>
            <a:off x="2313000" y="402264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1219320" y="43290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351160" y="505152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H="1">
            <a:off x="1333440" y="52182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600120" y="4871880"/>
                <a:ext cx="4064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238880" y="241128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238880" y="271620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1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7220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6934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1010-E297-4E10-90F8-A61591AE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336600" y="241632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533520" y="5334120"/>
                <a:ext cx="603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72A0-12AD-4D53-A164-E5D44947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Roll Pitch Y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"/>
          <p:cNvGrpSpPr/>
          <p:nvPr/>
        </p:nvGrpSpPr>
        <p:grpSpPr>
          <a:xfrm>
            <a:off x="4801320" y="2581200"/>
            <a:ext cx="4035600" cy="3517200"/>
            <a:chOff x="4801320" y="2581200"/>
            <a:chExt cx="4035600" cy="3517200"/>
          </a:xfrm>
        </p:grpSpPr>
        <p:grpSp>
          <p:nvGrpSpPr>
            <p:cNvPr id="464" name="Group 4"/>
            <p:cNvGrpSpPr/>
            <p:nvPr/>
          </p:nvGrpSpPr>
          <p:grpSpPr>
            <a:xfrm>
              <a:off x="5332320" y="3060360"/>
              <a:ext cx="3200400" cy="2743200"/>
              <a:chOff x="5332320" y="3060360"/>
              <a:chExt cx="3200400" cy="2743200"/>
            </a:xfrm>
          </p:grpSpPr>
          <p:sp>
            <p:nvSpPr>
              <p:cNvPr id="465" name="Line 5"/>
              <p:cNvSpPr/>
              <p:nvPr/>
            </p:nvSpPr>
            <p:spPr>
              <a:xfrm flipV="1">
                <a:off x="6703920" y="3060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"/>
              <p:cNvSpPr/>
              <p:nvPr/>
            </p:nvSpPr>
            <p:spPr>
              <a:xfrm flipH="1">
                <a:off x="5332320" y="4889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"/>
              <p:cNvSpPr/>
              <p:nvPr/>
            </p:nvSpPr>
            <p:spPr>
              <a:xfrm>
                <a:off x="6703920" y="4889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"/>
              <p:cNvSpPr/>
              <p:nvPr/>
            </p:nvSpPr>
            <p:spPr>
              <a:xfrm>
                <a:off x="6399000" y="3593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"/>
              <p:cNvSpPr/>
              <p:nvPr/>
            </p:nvSpPr>
            <p:spPr>
              <a:xfrm rot="16336800">
                <a:off x="5724360" y="5194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 rot="5753400">
                <a:off x="7395840" y="4714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1"/>
            <p:cNvSpPr/>
            <p:nvPr/>
          </p:nvSpPr>
          <p:spPr>
            <a:xfrm>
              <a:off x="480132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8436600" y="46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6442200" y="258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024"/>
                <p:cNvSpPr txBox="1"/>
                <p:nvPr/>
              </p:nvSpPr>
              <p:spPr>
                <a:xfrm>
                  <a:off x="5402160" y="4857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025"/>
                <p:cNvSpPr txBox="1"/>
                <p:nvPr/>
              </p:nvSpPr>
              <p:spPr>
                <a:xfrm>
                  <a:off x="7916760" y="5075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1026"/>
                <p:cNvSpPr txBox="1"/>
                <p:nvPr/>
              </p:nvSpPr>
              <p:spPr>
                <a:xfrm>
                  <a:off x="6870600" y="309060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228600" y="3200400"/>
                <a:ext cx="52578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TC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6DD8-2581-4564-97FC-7A31B1F6D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5031360" y="457200"/>
            <a:ext cx="4035960" cy="3517200"/>
            <a:chOff x="5031360" y="457200"/>
            <a:chExt cx="4035960" cy="3517200"/>
          </a:xfrm>
        </p:grpSpPr>
        <p:grpSp>
          <p:nvGrpSpPr>
            <p:cNvPr id="483" name="Group 4"/>
            <p:cNvGrpSpPr/>
            <p:nvPr/>
          </p:nvGrpSpPr>
          <p:grpSpPr>
            <a:xfrm>
              <a:off x="5562360" y="936360"/>
              <a:ext cx="3200400" cy="2743200"/>
              <a:chOff x="5562360" y="936360"/>
              <a:chExt cx="3200400" cy="2743200"/>
            </a:xfrm>
          </p:grpSpPr>
          <p:sp>
            <p:nvSpPr>
              <p:cNvPr id="484" name="Line 5"/>
              <p:cNvSpPr/>
              <p:nvPr/>
            </p:nvSpPr>
            <p:spPr>
              <a:xfrm flipV="1">
                <a:off x="6933960" y="936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6"/>
              <p:cNvSpPr/>
              <p:nvPr/>
            </p:nvSpPr>
            <p:spPr>
              <a:xfrm flipH="1">
                <a:off x="5562360" y="2765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"/>
              <p:cNvSpPr/>
              <p:nvPr/>
            </p:nvSpPr>
            <p:spPr>
              <a:xfrm>
                <a:off x="6933960" y="2765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6629040" y="1469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16336800">
                <a:off x="5954400" y="3070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 rot="5753400">
                <a:off x="7625880" y="2590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1"/>
            <p:cNvSpPr/>
            <p:nvPr/>
          </p:nvSpPr>
          <p:spPr>
            <a:xfrm>
              <a:off x="5031360" y="351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8667000" y="2523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6672600" y="45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024"/>
                <p:cNvSpPr txBox="1"/>
                <p:nvPr/>
              </p:nvSpPr>
              <p:spPr>
                <a:xfrm>
                  <a:off x="5632200" y="2733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1025"/>
                <p:cNvSpPr txBox="1"/>
                <p:nvPr/>
              </p:nvSpPr>
              <p:spPr>
                <a:xfrm>
                  <a:off x="8147160" y="2951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1026"/>
                <p:cNvSpPr txBox="1"/>
                <p:nvPr/>
              </p:nvSpPr>
              <p:spPr>
                <a:xfrm>
                  <a:off x="7101000" y="966600"/>
                  <a:ext cx="4143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488880" y="1447920"/>
                <a:ext cx="4005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6"/>
              <p:cNvSpPr txBox="1"/>
              <p:nvPr/>
            </p:nvSpPr>
            <p:spPr>
              <a:xfrm>
                <a:off x="228600" y="3429000"/>
                <a:ext cx="58672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ψ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θSψ</m:t>
                                  </m:r>
                                </m:e>
                                <m:e>
                                  <m:r>
                                    <m:t xml:space="preserve">CφSθC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CφSθ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θC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Sψ</m:t>
                                  </m:r>
                                </m:e>
                                <m:e>
                                  <m:r>
                                    <m:t xml:space="preserve">CθCψ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095-DE40-45BC-A658-82B608A0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57200" y="12952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12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12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transformed to p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frame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s seen from an observer 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943600" y="5257800"/>
            <a:ext cx="685800" cy="6094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7467480" y="5257800"/>
            <a:ext cx="685800" cy="609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28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Rotation of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 with respect to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720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ranslation of the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 with respect to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267080" y="4826160"/>
            <a:ext cx="1981440" cy="3553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248" h="224">
                <a:moveTo>
                  <a:pt x="0" y="224"/>
                </a:moveTo>
                <a:cubicBezTo>
                  <a:pt x="48" y="144"/>
                  <a:pt x="96" y="64"/>
                  <a:pt x="240" y="32"/>
                </a:cubicBezTo>
                <a:cubicBezTo>
                  <a:pt x="384" y="0"/>
                  <a:pt x="696" y="0"/>
                  <a:pt x="864" y="32"/>
                </a:cubicBezTo>
                <a:cubicBezTo>
                  <a:pt x="1032" y="64"/>
                  <a:pt x="1184" y="192"/>
                  <a:pt x="1248" y="22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7620120" y="5943600"/>
            <a:ext cx="495360" cy="304920"/>
          </a:xfrm>
          <a:custGeom>
            <a:avLst/>
            <a:gdLst>
              <a:gd name="textAreaLeft" fmla="*/ 0 w 495360"/>
              <a:gd name="textAreaRight" fmla="*/ 495720 w 495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2" descr=""/>
          <p:cNvPicPr/>
          <p:nvPr/>
        </p:nvPicPr>
        <p:blipFill>
          <a:blip r:embed="rId1"/>
          <a:stretch/>
        </p:blipFill>
        <p:spPr>
          <a:xfrm>
            <a:off x="3714840" y="1219320"/>
            <a:ext cx="5429160" cy="4667040"/>
          </a:xfrm>
          <a:prstGeom prst="rect">
            <a:avLst/>
          </a:prstGeom>
          <a:ln w="0">
            <a:noFill/>
          </a:ln>
        </p:spPr>
      </p:pic>
      <p:sp>
        <p:nvSpPr>
          <p:cNvPr id="508" name="Freeform 17"/>
          <p:cNvSpPr/>
          <p:nvPr/>
        </p:nvSpPr>
        <p:spPr>
          <a:xfrm>
            <a:off x="4648320" y="57150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0D98-E8E5-462D-BE3E-5F7612359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5800" y="114300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transformation from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to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2762280" y="1720800"/>
                <a:ext cx="2639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Text Box 13"/>
          <p:cNvSpPr/>
          <p:nvPr/>
        </p:nvSpPr>
        <p:spPr>
          <a:xfrm>
            <a:off x="6781680" y="5324400"/>
            <a:ext cx="10670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vector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5715000" y="5105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C9D0-9DE1-4953-8A0A-A4260F798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4524480" y="2743200"/>
                <a:ext cx="187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85800" y="114300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6705720" y="5257800"/>
            <a:ext cx="1981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 vector of the origin of frame B wrt frame A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5715000" y="5105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95E1-E764-4591-BAC0-2CD54A4AE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1447920" y="1295280"/>
                <a:ext cx="1873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581280" y="1447920"/>
                <a:ext cx="187344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72200" y="1523880"/>
                <a:ext cx="187308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2527200" y="4648320"/>
                <a:ext cx="3059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6"/>
              <p:cNvSpPr txBox="1"/>
              <p:nvPr/>
            </p:nvSpPr>
            <p:spPr>
              <a:xfrm>
                <a:off x="2666880" y="2362320"/>
                <a:ext cx="28958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CC6-9C3F-45D7-A696-A7D4F1F1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838080" y="1752480"/>
                <a:ext cx="29718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4334040" y="1752480"/>
                <a:ext cx="3938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0" name="Group 63"/>
          <p:cNvGrpSpPr/>
          <p:nvPr/>
        </p:nvGrpSpPr>
        <p:grpSpPr>
          <a:xfrm>
            <a:off x="4419720" y="3352680"/>
            <a:ext cx="4114800" cy="3340080"/>
            <a:chOff x="4419720" y="3352680"/>
            <a:chExt cx="4114800" cy="3340080"/>
          </a:xfrm>
        </p:grpSpPr>
        <p:sp>
          <p:nvSpPr>
            <p:cNvPr id="541" name="Line 6"/>
            <p:cNvSpPr/>
            <p:nvPr/>
          </p:nvSpPr>
          <p:spPr>
            <a:xfrm flipV="1">
              <a:off x="5486400" y="4660920"/>
              <a:ext cx="190512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5486400" y="63370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5486400" y="3593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9"/>
                <p:cNvSpPr txBox="1"/>
                <p:nvPr/>
              </p:nvSpPr>
              <p:spPr>
                <a:xfrm>
                  <a:off x="8153280" y="5956200"/>
                  <a:ext cx="3049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7391520" y="4432320"/>
                  <a:ext cx="3348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Object 11"/>
                <p:cNvSpPr txBox="1"/>
                <p:nvPr/>
              </p:nvSpPr>
              <p:spPr>
                <a:xfrm>
                  <a:off x="5257800" y="3365280"/>
                  <a:ext cx="304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Oval 12"/>
            <p:cNvSpPr/>
            <p:nvPr/>
          </p:nvSpPr>
          <p:spPr>
            <a:xfrm>
              <a:off x="6781680" y="38098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13"/>
                <p:cNvSpPr txBox="1"/>
                <p:nvPr/>
              </p:nvSpPr>
              <p:spPr>
                <a:xfrm>
                  <a:off x="6781680" y="3352680"/>
                  <a:ext cx="3859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Line 18"/>
            <p:cNvSpPr/>
            <p:nvPr/>
          </p:nvSpPr>
          <p:spPr>
            <a:xfrm flipV="1">
              <a:off x="5486400" y="518112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5486400" y="5943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5486400" y="48765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21"/>
                <p:cNvSpPr txBox="1"/>
                <p:nvPr/>
              </p:nvSpPr>
              <p:spPr>
                <a:xfrm>
                  <a:off x="6996240" y="5721120"/>
                  <a:ext cx="485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Object 22"/>
                <p:cNvSpPr txBox="1"/>
                <p:nvPr/>
              </p:nvSpPr>
              <p:spPr>
                <a:xfrm>
                  <a:off x="6400800" y="4808520"/>
                  <a:ext cx="488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23"/>
                <p:cNvSpPr txBox="1"/>
                <p:nvPr/>
              </p:nvSpPr>
              <p:spPr>
                <a:xfrm>
                  <a:off x="5211720" y="4440240"/>
                  <a:ext cx="4590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24"/>
            <p:cNvSpPr/>
            <p:nvPr/>
          </p:nvSpPr>
          <p:spPr>
            <a:xfrm>
              <a:off x="5181480" y="6324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3"/>
            <p:cNvSpPr/>
            <p:nvPr/>
          </p:nvSpPr>
          <p:spPr>
            <a:xfrm flipH="1">
              <a:off x="4572000" y="595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4"/>
            <p:cNvSpPr/>
            <p:nvPr/>
          </p:nvSpPr>
          <p:spPr>
            <a:xfrm flipH="1">
              <a:off x="4572000" y="633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>
              <a:off x="4876920" y="595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6"/>
            <p:cNvSpPr/>
            <p:nvPr/>
          </p:nvSpPr>
          <p:spPr>
            <a:xfrm>
              <a:off x="4419720" y="595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7"/>
          <p:cNvGrpSpPr/>
          <p:nvPr/>
        </p:nvGrpSpPr>
        <p:grpSpPr>
          <a:xfrm>
            <a:off x="762120" y="3352680"/>
            <a:ext cx="3276000" cy="3110040"/>
            <a:chOff x="762120" y="3352680"/>
            <a:chExt cx="3276000" cy="3110040"/>
          </a:xfrm>
        </p:grpSpPr>
        <p:sp>
          <p:nvSpPr>
            <p:cNvPr id="561" name="Line 38"/>
            <p:cNvSpPr/>
            <p:nvPr/>
          </p:nvSpPr>
          <p:spPr>
            <a:xfrm flipV="1">
              <a:off x="990360" y="4635000"/>
              <a:ext cx="19047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"/>
            <p:cNvSpPr/>
            <p:nvPr/>
          </p:nvSpPr>
          <p:spPr>
            <a:xfrm>
              <a:off x="990360" y="631188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0"/>
            <p:cNvSpPr/>
            <p:nvPr/>
          </p:nvSpPr>
          <p:spPr>
            <a:xfrm flipV="1">
              <a:off x="990360" y="35686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41"/>
                <p:cNvSpPr txBox="1"/>
                <p:nvPr/>
              </p:nvSpPr>
              <p:spPr>
                <a:xfrm>
                  <a:off x="3733560" y="59306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42"/>
                <p:cNvSpPr txBox="1"/>
                <p:nvPr/>
              </p:nvSpPr>
              <p:spPr>
                <a:xfrm>
                  <a:off x="2895480" y="4635360"/>
                  <a:ext cx="3344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43"/>
                <p:cNvSpPr txBox="1"/>
                <p:nvPr/>
              </p:nvSpPr>
              <p:spPr>
                <a:xfrm>
                  <a:off x="990360" y="3352680"/>
                  <a:ext cx="304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Oval 44"/>
            <p:cNvSpPr/>
            <p:nvPr/>
          </p:nvSpPr>
          <p:spPr>
            <a:xfrm>
              <a:off x="2286000" y="4178160"/>
              <a:ext cx="7560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5"/>
                <p:cNvSpPr txBox="1"/>
                <p:nvPr/>
              </p:nvSpPr>
              <p:spPr>
                <a:xfrm>
                  <a:off x="2286000" y="3720960"/>
                  <a:ext cx="3852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9" name="Line 50"/>
            <p:cNvSpPr/>
            <p:nvPr/>
          </p:nvSpPr>
          <p:spPr>
            <a:xfrm flipV="1">
              <a:off x="990360" y="554940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1"/>
            <p:cNvSpPr/>
            <p:nvPr/>
          </p:nvSpPr>
          <p:spPr>
            <a:xfrm>
              <a:off x="990360" y="631188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2"/>
            <p:cNvSpPr/>
            <p:nvPr/>
          </p:nvSpPr>
          <p:spPr>
            <a:xfrm flipV="1">
              <a:off x="990360" y="524484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Object 53"/>
                <p:cNvSpPr txBox="1"/>
                <p:nvPr/>
              </p:nvSpPr>
              <p:spPr>
                <a:xfrm>
                  <a:off x="2590560" y="61592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4"/>
                <p:cNvSpPr txBox="1"/>
                <p:nvPr/>
              </p:nvSpPr>
              <p:spPr>
                <a:xfrm>
                  <a:off x="2011320" y="5271840"/>
                  <a:ext cx="274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Object 55"/>
                <p:cNvSpPr txBox="1"/>
                <p:nvPr/>
              </p:nvSpPr>
              <p:spPr>
                <a:xfrm>
                  <a:off x="762120" y="4863960"/>
                  <a:ext cx="366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AutoShape 64"/>
          <p:cNvSpPr/>
          <p:nvPr/>
        </p:nvSpPr>
        <p:spPr>
          <a:xfrm>
            <a:off x="3581280" y="472428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76212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E31-F5DC-4E10-8815-FF5091DF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1"/>
              <p:cNvSpPr txBox="1"/>
              <p:nvPr/>
            </p:nvSpPr>
            <p:spPr>
              <a:xfrm>
                <a:off x="730080" y="3048120"/>
                <a:ext cx="40039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1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A5CE-0E7B-4DD8-BDE9-555318BF9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266840" y="21337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the X-axi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685800" y="1828800"/>
                <a:ext cx="33526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5"/>
              <p:cNvSpPr txBox="1"/>
              <p:nvPr/>
            </p:nvSpPr>
            <p:spPr>
              <a:xfrm>
                <a:off x="5218200" y="1963800"/>
                <a:ext cx="2808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7"/>
              <p:cNvSpPr txBox="1"/>
              <p:nvPr/>
            </p:nvSpPr>
            <p:spPr>
              <a:xfrm>
                <a:off x="5334120" y="12952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88D-1E0C-41E2-86EC-90DF50ACD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3125160" y="3429000"/>
            <a:ext cx="3961440" cy="3176640"/>
            <a:chOff x="3125160" y="3429000"/>
            <a:chExt cx="3961440" cy="3176640"/>
          </a:xfrm>
        </p:grpSpPr>
        <p:sp>
          <p:nvSpPr>
            <p:cNvPr id="590" name="Line 8"/>
            <p:cNvSpPr/>
            <p:nvPr/>
          </p:nvSpPr>
          <p:spPr>
            <a:xfrm flipV="1">
              <a:off x="4847040" y="365760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2"/>
            <p:cNvGrpSpPr/>
            <p:nvPr/>
          </p:nvGrpSpPr>
          <p:grpSpPr>
            <a:xfrm>
              <a:off x="3125160" y="3429000"/>
              <a:ext cx="3961440" cy="3176640"/>
              <a:chOff x="3125160" y="3429000"/>
              <a:chExt cx="3961440" cy="3176640"/>
            </a:xfrm>
          </p:grpSpPr>
          <mc:AlternateContent>
            <mc:Choice xmlns:a14="http://schemas.microsoft.com/office/drawing/2010/main" Requires="a14">
              <p:sp>
                <p:nvSpPr>
                  <p:cNvPr id="592" name="Object 6"/>
                  <p:cNvSpPr txBox="1"/>
                  <p:nvPr/>
                </p:nvSpPr>
                <p:spPr>
                  <a:xfrm>
                    <a:off x="3810240" y="6302520"/>
                    <a:ext cx="304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Line 7"/>
              <p:cNvSpPr/>
              <p:nvPr/>
            </p:nvSpPr>
            <p:spPr>
              <a:xfrm>
                <a:off x="4847040" y="5562720"/>
                <a:ext cx="20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Object 9"/>
                  <p:cNvSpPr txBox="1"/>
                  <p:nvPr/>
                </p:nvSpPr>
                <p:spPr>
                  <a:xfrm>
                    <a:off x="4923000" y="3429000"/>
                    <a:ext cx="30456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Object 10"/>
                  <p:cNvSpPr txBox="1"/>
                  <p:nvPr/>
                </p:nvSpPr>
                <p:spPr>
                  <a:xfrm>
                    <a:off x="6751800" y="5693040"/>
                    <a:ext cx="33480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6" name="Object 11"/>
                  <p:cNvSpPr txBox="1"/>
                  <p:nvPr/>
                </p:nvSpPr>
                <p:spPr>
                  <a:xfrm>
                    <a:off x="6316920" y="4257720"/>
                    <a:ext cx="3553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7" name="Object 12"/>
                  <p:cNvSpPr txBox="1"/>
                  <p:nvPr/>
                </p:nvSpPr>
                <p:spPr>
                  <a:xfrm>
                    <a:off x="3981960" y="3647880"/>
                    <a:ext cx="3301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8" name="Group 13"/>
              <p:cNvGrpSpPr/>
              <p:nvPr/>
            </p:nvGrpSpPr>
            <p:grpSpPr>
              <a:xfrm>
                <a:off x="4083480" y="4037040"/>
                <a:ext cx="2499120" cy="1520280"/>
                <a:chOff x="4083480" y="4037040"/>
                <a:chExt cx="2499120" cy="1520280"/>
              </a:xfrm>
            </p:grpSpPr>
            <p:sp>
              <p:nvSpPr>
                <p:cNvPr id="599" name="Line 14"/>
                <p:cNvSpPr/>
                <p:nvPr/>
              </p:nvSpPr>
              <p:spPr>
                <a:xfrm flipV="1">
                  <a:off x="4823280" y="4700880"/>
                  <a:ext cx="1759320" cy="85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5"/>
                <p:cNvSpPr/>
                <p:nvPr/>
              </p:nvSpPr>
              <p:spPr>
                <a:xfrm flipH="1" flipV="1">
                  <a:off x="4083480" y="4037040"/>
                  <a:ext cx="739800" cy="151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Line 16"/>
              <p:cNvSpPr/>
              <p:nvPr/>
            </p:nvSpPr>
            <p:spPr>
              <a:xfrm flipV="1">
                <a:off x="4847040" y="4572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7"/>
              <p:cNvSpPr/>
              <p:nvPr/>
            </p:nvSpPr>
            <p:spPr>
              <a:xfrm>
                <a:off x="5913720" y="4572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 flipH="1">
                <a:off x="4846680" y="457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5913720" y="4572000"/>
                <a:ext cx="1522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 flipH="1">
                <a:off x="4618440" y="4572000"/>
                <a:ext cx="1295280" cy="609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6" name="Object 21"/>
                  <p:cNvSpPr txBox="1"/>
                  <p:nvPr/>
                </p:nvSpPr>
                <p:spPr>
                  <a:xfrm>
                    <a:off x="5761440" y="4038480"/>
                    <a:ext cx="3888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7" name="Line 22"/>
              <p:cNvSpPr/>
              <p:nvPr/>
            </p:nvSpPr>
            <p:spPr>
              <a:xfrm flipH="1">
                <a:off x="3582000" y="5540400"/>
                <a:ext cx="12952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 flipH="1">
                <a:off x="4115160" y="5540400"/>
                <a:ext cx="7617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Object 24"/>
                  <p:cNvSpPr txBox="1"/>
                  <p:nvPr/>
                </p:nvSpPr>
                <p:spPr>
                  <a:xfrm>
                    <a:off x="4240440" y="5835960"/>
                    <a:ext cx="3283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Object 1025"/>
                  <p:cNvSpPr txBox="1"/>
                  <p:nvPr/>
                </p:nvSpPr>
                <p:spPr>
                  <a:xfrm>
                    <a:off x="5467680" y="5214240"/>
                    <a:ext cx="247320" cy="34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1" name="Object 28"/>
                  <p:cNvSpPr txBox="1"/>
                  <p:nvPr/>
                </p:nvSpPr>
                <p:spPr>
                  <a:xfrm>
                    <a:off x="4496040" y="4389480"/>
                    <a:ext cx="23796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Arc 59"/>
              <p:cNvSpPr/>
              <p:nvPr/>
            </p:nvSpPr>
            <p:spPr>
              <a:xfrm rot="13537200">
                <a:off x="4695480" y="5011560"/>
                <a:ext cx="868320" cy="28296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59"/>
              <p:cNvSpPr/>
              <p:nvPr/>
            </p:nvSpPr>
            <p:spPr>
              <a:xfrm rot="8875200">
                <a:off x="3116160" y="4982400"/>
                <a:ext cx="1760400" cy="47304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95280" y="2588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18960" y="1069920"/>
            <a:ext cx="45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ix superscript denotes the reference frame in which the vector should be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1"/>
              <p:cNvSpPr txBox="1"/>
              <p:nvPr/>
            </p:nvSpPr>
            <p:spPr>
              <a:xfrm>
                <a:off x="270000" y="3429000"/>
                <a:ext cx="3387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Object 33"/>
          <p:cNvGraphicFramePr/>
          <p:nvPr/>
        </p:nvGraphicFramePr>
        <p:xfrm>
          <a:off x="4267080" y="3581280"/>
          <a:ext cx="15242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1524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514600" y="556272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int, two different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505320" y="4648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 flipV="1">
            <a:off x="1714320" y="4622400"/>
            <a:ext cx="186660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7245360" y="1660680"/>
            <a:ext cx="1073160" cy="728640"/>
            <a:chOff x="7245360" y="1660680"/>
            <a:chExt cx="1073160" cy="728640"/>
          </a:xfrm>
        </p:grpSpPr>
        <p:sp>
          <p:nvSpPr>
            <p:cNvPr id="168" name="Line 26"/>
            <p:cNvSpPr/>
            <p:nvPr/>
          </p:nvSpPr>
          <p:spPr>
            <a:xfrm flipV="1">
              <a:off x="7245360" y="166068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7245360" y="238932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02360" y="779400"/>
            <a:ext cx="3517920" cy="2657520"/>
            <a:chOff x="5202360" y="779400"/>
            <a:chExt cx="3517920" cy="2657520"/>
          </a:xfrm>
        </p:grpSpPr>
        <p:sp>
          <p:nvSpPr>
            <p:cNvPr id="171" name="Line 4"/>
            <p:cNvSpPr/>
            <p:nvPr/>
          </p:nvSpPr>
          <p:spPr>
            <a:xfrm flipV="1">
              <a:off x="5530680" y="1266480"/>
              <a:ext cx="0" cy="18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5530680" y="3100320"/>
              <a:ext cx="286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5530680" y="2383920"/>
              <a:ext cx="172728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7848720" y="1752480"/>
                  <a:ext cx="242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7177320" y="3160800"/>
                  <a:ext cx="1807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2"/>
                <p:cNvSpPr txBox="1"/>
                <p:nvPr/>
              </p:nvSpPr>
              <p:spPr>
                <a:xfrm>
                  <a:off x="5202360" y="226044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2"/>
                <p:cNvSpPr txBox="1"/>
                <p:nvPr/>
              </p:nvSpPr>
              <p:spPr>
                <a:xfrm>
                  <a:off x="5280120" y="2906640"/>
                  <a:ext cx="201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8" name="Object 37"/>
            <p:cNvGraphicFramePr/>
            <p:nvPr/>
          </p:nvGraphicFramePr>
          <p:xfrm>
            <a:off x="8331480" y="2163600"/>
            <a:ext cx="32544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31480" y="2163600"/>
                      <a:ext cx="32544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0" name="Object 38"/>
                <p:cNvSpPr txBox="1"/>
                <p:nvPr/>
              </p:nvSpPr>
              <p:spPr>
                <a:xfrm>
                  <a:off x="8394840" y="2938680"/>
                  <a:ext cx="3254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39"/>
                <p:cNvSpPr txBox="1"/>
                <p:nvPr/>
              </p:nvSpPr>
              <p:spPr>
                <a:xfrm>
                  <a:off x="5346720" y="779400"/>
                  <a:ext cx="350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2" name="Object 40"/>
            <p:cNvGraphicFramePr/>
            <p:nvPr/>
          </p:nvGraphicFramePr>
          <p:xfrm>
            <a:off x="7035840" y="1234800"/>
            <a:ext cx="35064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1234800"/>
                      <a:ext cx="3506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Group 26"/>
            <p:cNvGrpSpPr/>
            <p:nvPr/>
          </p:nvGrpSpPr>
          <p:grpSpPr>
            <a:xfrm>
              <a:off x="7696440" y="2286000"/>
              <a:ext cx="180720" cy="425160"/>
              <a:chOff x="7696440" y="2286000"/>
              <a:chExt cx="180720" cy="425160"/>
            </a:xfrm>
          </p:grpSpPr>
          <p:sp>
            <p:nvSpPr>
              <p:cNvPr id="185" name="Line 9"/>
              <p:cNvSpPr/>
              <p:nvPr/>
            </p:nvSpPr>
            <p:spPr>
              <a:xfrm>
                <a:off x="7777440" y="22860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25"/>
                  <p:cNvSpPr txBox="1"/>
                  <p:nvPr/>
                </p:nvSpPr>
                <p:spPr>
                  <a:xfrm>
                    <a:off x="7696440" y="2435040"/>
                    <a:ext cx="18072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7" name="Line 9"/>
            <p:cNvSpPr/>
            <p:nvPr/>
          </p:nvSpPr>
          <p:spPr>
            <a:xfrm>
              <a:off x="7772760" y="198108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716292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746784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6"/>
                <p:cNvSpPr txBox="1"/>
                <p:nvPr/>
              </p:nvSpPr>
              <p:spPr>
                <a:xfrm>
                  <a:off x="6858000" y="190476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38"/>
            <p:cNvGrpSpPr/>
            <p:nvPr/>
          </p:nvGrpSpPr>
          <p:grpSpPr>
            <a:xfrm>
              <a:off x="7239240" y="2438280"/>
              <a:ext cx="20520" cy="752400"/>
              <a:chOff x="7239240" y="2438280"/>
              <a:chExt cx="20520" cy="75240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7258320" y="30114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9"/>
              <p:cNvSpPr/>
              <p:nvPr/>
            </p:nvSpPr>
            <p:spPr>
              <a:xfrm>
                <a:off x="7239240" y="243828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239240" y="271584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7"/>
            <p:cNvGrpSpPr/>
            <p:nvPr/>
          </p:nvGrpSpPr>
          <p:grpSpPr>
            <a:xfrm>
              <a:off x="5438880" y="2362320"/>
              <a:ext cx="1676520" cy="23760"/>
              <a:chOff x="5438880" y="2362320"/>
              <a:chExt cx="1676520" cy="23760"/>
            </a:xfrm>
          </p:grpSpPr>
          <p:sp>
            <p:nvSpPr>
              <p:cNvPr id="196" name="Line 10"/>
              <p:cNvSpPr/>
              <p:nvPr/>
            </p:nvSpPr>
            <p:spPr>
              <a:xfrm>
                <a:off x="5438880" y="238464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55344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>
                <a:off x="579132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17220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93468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A5A0-B431-433C-B092-6443ED04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Homogeneous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fixed frame, using pre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current frame, using post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B9D0-7FCA-4693-AEA8-C785E86D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omogeneous transformation matrix (H) for the following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685800" y="2362320"/>
                <a:ext cx="420048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a along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d along O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OZ axi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swer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550960" y="4478400"/>
                <a:ext cx="27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2209680" y="4952880"/>
                <a:ext cx="62485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AF1B-46B5-44CF-8C13-0F6F4DB76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596880" y="334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ose double-angle formul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914400" y="1733400"/>
                <a:ext cx="6226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914400" y="2419200"/>
                <a:ext cx="6291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08C9-53B7-4003-9839-2B60E3F3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-12600" y="1219320"/>
                <a:ext cx="26985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5638680" y="1219320"/>
                <a:ext cx="30783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0" name="Group 5"/>
          <p:cNvGrpSpPr/>
          <p:nvPr/>
        </p:nvGrpSpPr>
        <p:grpSpPr>
          <a:xfrm>
            <a:off x="3413160" y="3238560"/>
            <a:ext cx="2295360" cy="1616040"/>
            <a:chOff x="3413160" y="3238560"/>
            <a:chExt cx="2295360" cy="1616040"/>
          </a:xfrm>
        </p:grpSpPr>
        <mc:AlternateContent>
          <mc:Choice xmlns:a14="http://schemas.microsoft.com/office/drawing/2010/main" Requires="a14">
            <p:sp>
              <p:nvSpPr>
                <p:cNvPr id="631" name="Object 7"/>
                <p:cNvSpPr txBox="1"/>
                <p:nvPr/>
              </p:nvSpPr>
              <p:spPr>
                <a:xfrm>
                  <a:off x="3413160" y="3238560"/>
                  <a:ext cx="2295360" cy="16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Line 7"/>
            <p:cNvSpPr/>
            <p:nvPr/>
          </p:nvSpPr>
          <p:spPr>
            <a:xfrm flipV="1">
              <a:off x="3997080" y="3687480"/>
              <a:ext cx="30780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4022640" y="3713040"/>
              <a:ext cx="101880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581360" y="4157280"/>
              <a:ext cx="52344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0"/>
          <p:cNvSpPr/>
          <p:nvPr/>
        </p:nvSpPr>
        <p:spPr>
          <a:xfrm>
            <a:off x="2689200" y="2792520"/>
            <a:ext cx="600120" cy="5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5737320" y="2773080"/>
            <a:ext cx="841320" cy="64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650880" y="5411880"/>
                <a:ext cx="944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2419200" y="5610240"/>
                <a:ext cx="1370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Line 14"/>
          <p:cNvSpPr/>
          <p:nvPr/>
        </p:nvSpPr>
        <p:spPr>
          <a:xfrm flipV="1">
            <a:off x="1673280" y="5833800"/>
            <a:ext cx="6508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838080" y="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trix tran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6840360" y="5486400"/>
                <a:ext cx="199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Text Box 19"/>
          <p:cNvSpPr/>
          <p:nvPr/>
        </p:nvSpPr>
        <p:spPr>
          <a:xfrm>
            <a:off x="4424400" y="556560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B025-9F04-476E-B24A-4ECC89AE0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24000" y="1460520"/>
                <a:ext cx="2023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4021200" y="1498680"/>
                <a:ext cx="1942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42"/>
          <p:cNvSpPr/>
          <p:nvPr/>
        </p:nvSpPr>
        <p:spPr>
          <a:xfrm>
            <a:off x="838080" y="33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trix multiplic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0" y="3048120"/>
                <a:ext cx="788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873000" y="4797360"/>
                <a:ext cx="63709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45"/>
          <p:cNvSpPr/>
          <p:nvPr/>
        </p:nvSpPr>
        <p:spPr>
          <a:xfrm>
            <a:off x="471600" y="434664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dot product as a matrix multi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F19A-1A4D-4BBD-902E-9462A8F26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2.10, 2.11, 2.12, 2.13, 2.14 ,2.15, 2.22, 2.24, 2.37, and 2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5D8B-D005-41F1-88A9-807A18DE1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74800" y="2588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 (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2"/>
          <p:cNvGrpSpPr/>
          <p:nvPr/>
        </p:nvGrpSpPr>
        <p:grpSpPr>
          <a:xfrm>
            <a:off x="5646600" y="1066680"/>
            <a:ext cx="2684520" cy="2065320"/>
            <a:chOff x="5646600" y="10666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04" name="Object 43"/>
                <p:cNvSpPr txBox="1"/>
                <p:nvPr/>
              </p:nvSpPr>
              <p:spPr>
                <a:xfrm>
                  <a:off x="8129520" y="24825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Line 44"/>
            <p:cNvSpPr/>
            <p:nvPr/>
          </p:nvSpPr>
          <p:spPr>
            <a:xfrm flipV="1">
              <a:off x="6451560" y="13773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V="1">
              <a:off x="6451560" y="25970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6"/>
                <p:cNvSpPr txBox="1"/>
                <p:nvPr/>
              </p:nvSpPr>
              <p:spPr>
                <a:xfrm>
                  <a:off x="6349680" y="10666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47"/>
            <p:cNvSpPr/>
            <p:nvPr/>
          </p:nvSpPr>
          <p:spPr>
            <a:xfrm flipH="1">
              <a:off x="5943600" y="26064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8"/>
                <p:cNvSpPr txBox="1"/>
                <p:nvPr/>
              </p:nvSpPr>
              <p:spPr>
                <a:xfrm>
                  <a:off x="5646600" y="29336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56"/>
          <p:cNvSpPr/>
          <p:nvPr/>
        </p:nvSpPr>
        <p:spPr>
          <a:xfrm>
            <a:off x="5494320" y="3276720"/>
            <a:ext cx="26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ed coordinat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4960800" y="3124080"/>
            <a:ext cx="3802320" cy="1071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62120" y="1014480"/>
            <a:ext cx="2684520" cy="2065320"/>
            <a:chOff x="762120" y="10144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13" name="Object 61"/>
                <p:cNvSpPr txBox="1"/>
                <p:nvPr/>
              </p:nvSpPr>
              <p:spPr>
                <a:xfrm>
                  <a:off x="3245040" y="24303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9"/>
            <p:cNvSpPr/>
            <p:nvPr/>
          </p:nvSpPr>
          <p:spPr>
            <a:xfrm flipV="1">
              <a:off x="1567080" y="13251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V="1">
              <a:off x="1567080" y="25448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62"/>
                <p:cNvSpPr txBox="1"/>
                <p:nvPr/>
              </p:nvSpPr>
              <p:spPr>
                <a:xfrm>
                  <a:off x="1465200" y="10144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Line 22"/>
            <p:cNvSpPr/>
            <p:nvPr/>
          </p:nvSpPr>
          <p:spPr>
            <a:xfrm flipH="1">
              <a:off x="1059120" y="25542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62120" y="28814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Object 64"/>
              <p:cNvSpPr txBox="1"/>
              <p:nvPr/>
            </p:nvSpPr>
            <p:spPr>
              <a:xfrm>
                <a:off x="623880" y="2762280"/>
                <a:ext cx="13572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Line 25"/>
          <p:cNvSpPr/>
          <p:nvPr/>
        </p:nvSpPr>
        <p:spPr>
          <a:xfrm flipV="1">
            <a:off x="1600200" y="1752480"/>
            <a:ext cx="266760" cy="76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1981080" y="152388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B912-997E-4403-92FF-17B1FA6D9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7"/>
              <p:cNvSpPr txBox="1"/>
              <p:nvPr/>
            </p:nvSpPr>
            <p:spPr>
              <a:xfrm>
                <a:off x="-34920" y="4800600"/>
                <a:ext cx="2778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2602080" y="4233960"/>
                <a:ext cx="369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5" name="Text Box 26"/>
          <p:cNvSpPr/>
          <p:nvPr/>
        </p:nvSpPr>
        <p:spPr>
          <a:xfrm>
            <a:off x="4094280" y="419112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 flipH="1">
            <a:off x="2999880" y="449748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132440" y="5219640"/>
            <a:ext cx="455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3114720" y="538632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9"/>
              <p:cNvSpPr txBox="1"/>
              <p:nvPr/>
            </p:nvSpPr>
            <p:spPr>
              <a:xfrm>
                <a:off x="2717640" y="5029200"/>
                <a:ext cx="406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0" name="Text Box 29"/>
          <p:cNvSpPr/>
          <p:nvPr/>
        </p:nvSpPr>
        <p:spPr>
          <a:xfrm>
            <a:off x="4157640" y="5981760"/>
            <a:ext cx="45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139560" y="614844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60840" y="5845320"/>
                <a:ext cx="369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28195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0" y="1676520"/>
                <a:ext cx="3559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0" y="4994280"/>
                <a:ext cx="4475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238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0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24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0" name="Object 2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2" name="Object 2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838080" y="606276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25"/>
          <p:cNvGrpSpPr/>
          <p:nvPr/>
        </p:nvGrpSpPr>
        <p:grpSpPr>
          <a:xfrm>
            <a:off x="81000" y="3809880"/>
            <a:ext cx="4795920" cy="1139040"/>
            <a:chOff x="81000" y="3809880"/>
            <a:chExt cx="4795920" cy="1139040"/>
          </a:xfrm>
        </p:grpSpPr>
        <p:sp>
          <p:nvSpPr>
            <p:cNvPr id="257" name="Text Box 30"/>
            <p:cNvSpPr/>
            <p:nvPr/>
          </p:nvSpPr>
          <p:spPr>
            <a:xfrm>
              <a:off x="309600" y="3940200"/>
              <a:ext cx="456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To specify the coordinate vectors for the fame  B with respect to fram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4"/>
                <p:cNvSpPr txBox="1"/>
                <p:nvPr/>
              </p:nvSpPr>
              <p:spPr>
                <a:xfrm>
                  <a:off x="81000" y="3809880"/>
                  <a:ext cx="59688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Line 9"/>
          <p:cNvSpPr/>
          <p:nvPr/>
        </p:nvSpPr>
        <p:spPr>
          <a:xfrm>
            <a:off x="6858000" y="39625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5308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6858000" y="37339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6858000" y="35053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858000" y="32004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6858000" y="29718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858000" y="27432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858000" y="25146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594360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248520" y="25131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63868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02920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33412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77216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6934320" y="220968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Straight Connector 46"/>
          <p:cNvSpPr/>
          <p:nvPr/>
        </p:nvSpPr>
        <p:spPr>
          <a:xfrm>
            <a:off x="6857280" y="2514600"/>
            <a:ext cx="3049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9"/>
          <p:cNvSpPr/>
          <p:nvPr/>
        </p:nvSpPr>
        <p:spPr>
          <a:xfrm flipH="1">
            <a:off x="4495680" y="2513880"/>
            <a:ext cx="23623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3B0A-07D4-4330-B417-66BFB831C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2"/>
          <p:cNvGraphicFramePr/>
          <p:nvPr/>
        </p:nvGraphicFramePr>
        <p:xfrm>
          <a:off x="7745400" y="4853160"/>
          <a:ext cx="32076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5400" y="4853160"/>
                    <a:ext cx="320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3"/>
          <p:cNvGraphicFramePr/>
          <p:nvPr/>
        </p:nvGraphicFramePr>
        <p:xfrm>
          <a:off x="8697960" y="4856040"/>
          <a:ext cx="28404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97960" y="4856040"/>
                    <a:ext cx="2840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30"/>
          <p:cNvSpPr/>
          <p:nvPr/>
        </p:nvSpPr>
        <p:spPr>
          <a:xfrm>
            <a:off x="5181480" y="4876920"/>
            <a:ext cx="456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ngle between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ti clockwise dire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58680" y="1585800"/>
                <a:ext cx="3257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Line 9"/>
          <p:cNvSpPr/>
          <p:nvPr/>
        </p:nvSpPr>
        <p:spPr>
          <a:xfrm>
            <a:off x="6781680" y="39625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600960" y="35067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6781680" y="37339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781680" y="35053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9112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296040" y="3505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686560" y="350820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076720" y="350820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38164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1968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BA1-3CBC-4236-A020-F10CD988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4"/>
          <p:cNvGraphicFramePr/>
          <p:nvPr/>
        </p:nvGraphicFramePr>
        <p:xfrm>
          <a:off x="352440" y="2666880"/>
          <a:ext cx="3029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666880"/>
                    <a:ext cx="3029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5"/>
          <p:cNvGraphicFramePr/>
          <p:nvPr/>
        </p:nvGraphicFramePr>
        <p:xfrm>
          <a:off x="496800" y="4191120"/>
          <a:ext cx="31989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4191120"/>
                    <a:ext cx="31989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300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02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303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8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0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Object 2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3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2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64"/>
              <p:cNvSpPr txBox="1"/>
              <p:nvPr/>
            </p:nvSpPr>
            <p:spPr>
              <a:xfrm>
                <a:off x="422280" y="2787480"/>
                <a:ext cx="3257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429-A6A2-4482-AC2A-725A56EB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3048120"/>
                <a:ext cx="3844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26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8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29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1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9D7F-B2B5-49B2-AEEE-08C3F2A1D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3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" y="3048120"/>
                <a:ext cx="433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7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48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0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5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6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8" name="Object 13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9504-C6B0-4D06-850F-880BA69D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2:38:01Z</dcterms:created>
  <dc:creator>rplatt</dc:creator>
  <dc:description/>
  <dc:language>en-US</dc:language>
  <cp:lastModifiedBy>Ayssam</cp:lastModifiedBy>
  <dcterms:modified xsi:type="dcterms:W3CDTF">2009-09-08T06:32:09Z</dcterms:modified>
  <cp:revision>401</cp:revision>
  <dc:subject/>
  <dc:title>Rigid motions</dc:title>
</cp:coreProperties>
</file>